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73200"/>
            <a:ext cx="456552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34A31-5C94-4F1D-B2B5-13DD0B47D8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5EC-F821-4863-8A36-8DF48715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57F-BE72-46E5-A828-CA5E24F9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B16-F6B0-4FC3-8A87-BBAF93DD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18B-2DAB-4671-A9C8-47F410E5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A268-E234-4E3D-BD9B-AC856AC2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F6BD-9A6D-47EB-ACFF-E2426B42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DB48-873D-4E2A-B05E-9C0AED50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273C-3C09-4A65-8E00-92A5D837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4A94-6959-479C-A939-913695D9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6520"/>
            <a:ext cx="7765920" cy="80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304A-D781-4590-BBAE-F14D1231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DCC-94C9-44E7-BBA0-D9A4138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E54-FD55-4386-9BFE-B36E5B95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7FE9-0133-4864-B5A6-B9A3C412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1E8F-3D41-4A68-ABE0-3B1A5F7A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1AB4-7488-4E3A-A8D0-7C0A4B1D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F31C-9C3C-4147-9DD6-E4229D1C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0C67-CE0D-40EE-AC50-BC361052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78F-468C-41EC-892F-2E68A756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688-8BD0-4F09-B056-532DDAE2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CEC-1DB1-46D4-8987-32524055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6520"/>
            <a:ext cx="7765920" cy="80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505-5CF2-482E-9F59-2EAD4F0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70C-4B58-45A9-8958-6C397A8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ABD-8513-41CC-BAF7-623F224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0FF-5F02-4FA1-83F3-F781EC5C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600"/>
              <a:ext cx="2200320" cy="2694960"/>
              <a:chOff x="3600" y="3639600"/>
              <a:chExt cx="2200320" cy="269496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3320" y="6156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7240" y="61534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4400" y="614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840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556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8284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4240" y="6146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600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2404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3720" y="6012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9520" y="5688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31720" y="5717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36200" y="5508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7760" y="55465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2840" y="5581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7920" y="56242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6520" y="5319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30520" y="54039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95600" y="5435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60120" y="5113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10800" y="5238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22040" y="492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7120" y="50306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3200" y="48322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4640" y="4632480"/>
                <a:ext cx="136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5580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7800" y="4177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3880" y="42397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4400" y="426672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15680" y="4033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9160" y="4063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72920" y="40888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70172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4880" y="497484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9000" y="4987800"/>
                <a:ext cx="1636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40720" y="393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7080" y="3951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53160" y="38570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5640" y="3869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9120" y="38804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9080" y="390420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35360" y="3808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5320" y="3819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320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70720" y="3837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568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720" y="3810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424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40000">
                <a:off x="943560" y="3800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5920" y="3840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3080" y="3835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70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4600" y="3819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29040" y="3908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83040" y="3893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5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840" y="3859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4760" y="4051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3680" y="40071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48320" y="39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1160" y="39675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5160" y="3939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0" y="5343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0720" y="55162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5080" y="4436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2400" y="453060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8960" y="5680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376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5640" y="3868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13880" y="375876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3960" y="379764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80240" y="3867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3840" y="3970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11440" y="411012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25560" y="4273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907640" y="4457520"/>
                <a:ext cx="265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40040" y="4655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9388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74880" y="507492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656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759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64760" y="484164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82440"/>
            <a:ext cx="8534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2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3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46607-AE26-4AA3-96D4-E10D3201D1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600"/>
              <a:ext cx="2200320" cy="2694960"/>
              <a:chOff x="3600" y="3639600"/>
              <a:chExt cx="2200320" cy="269496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3320" y="6156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7240" y="61534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4400" y="614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840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556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8284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4240" y="6146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600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2404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3720" y="6012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9520" y="5688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31720" y="5717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36200" y="5508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7760" y="55465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2840" y="5581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7920" y="56242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6520" y="5319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30520" y="54039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95600" y="5435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60120" y="5113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10800" y="5238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22040" y="492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7120" y="50306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3200" y="48322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4640" y="4632480"/>
                <a:ext cx="136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5580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7800" y="4177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3880" y="42397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4400" y="426672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15680" y="4033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9160" y="4063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72920" y="40888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70172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4880" y="497484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9000" y="4987800"/>
                <a:ext cx="1636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40720" y="393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7080" y="3951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53160" y="38570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5640" y="3869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9120" y="38804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9080" y="390420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35360" y="3808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5320" y="3819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320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70720" y="3837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568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720" y="3810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424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40000">
                <a:off x="943560" y="3800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5920" y="3840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3080" y="3835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70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4600" y="3819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29040" y="3908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83040" y="3893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5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840" y="3859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4760" y="4051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3680" y="40071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48320" y="39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1160" y="39675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5160" y="3939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0" y="5343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0720" y="55162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5080" y="4436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2400" y="453060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8960" y="5680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376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5640" y="3868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13880" y="375876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3960" y="379764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80240" y="3867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3840" y="3970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11440" y="411012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25560" y="4273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907640" y="4457520"/>
                <a:ext cx="265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40040" y="4655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9388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74880" y="507492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656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759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64760" y="484164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795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279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151B9-931D-492A-98D6-310337E1BB3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0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765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ffffcc"/>
                </a:solidFill>
                <a:latin typeface="Tahoma"/>
              </a:rPr>
              <a:t>Wir sind auf unsere Heimat  stolz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tolz sei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uf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kk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быть горды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д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Die Sehenswürdigkeiten Moska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oskau wurde im 12 Jahrhundert, im Jahre 1147 von Juri Dolgoruki gegründ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urde......gegründet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 основ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80988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Wie nennt man Moskau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143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ahoma"/>
              </a:rPr>
              <a:t>Man nennt Moskau…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5276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123840"/>
            <a:ext cx="854064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1996920" cy="2189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122640" cy="21891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21840" y="2492280"/>
            <a:ext cx="88218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er Spasski-Turm des Kremls             Die Basilius-Kathedrale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er Glockentu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van der Große“                          Der Peter des Ersten Pal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60360" y="4668840"/>
            <a:ext cx="3273480" cy="21891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5040360" y="4668840"/>
            <a:ext cx="33224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Der Krem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das Herz Moska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5958000" y="260280"/>
            <a:ext cx="2935080" cy="19558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217680" cy="2252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2771640" y="4629240"/>
            <a:ext cx="3816360" cy="22287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393552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Die Zarenglock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.ist eine historische Glocke, die im Moskauer Kreml ausgestellt i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1288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Die Zarenkan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4194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st im Moskauer Kreml als Denkmal der Artillerie und der Gusstechnik des Russlands ausgestel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78764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ffcc"/>
                </a:solidFill>
                <a:latin typeface="Tahoma"/>
              </a:rPr>
              <a:t>Die Ikonen des altrussischen Malers Andrej Rubljow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3417840" cy="42717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516720" y="3068640"/>
            <a:ext cx="2387520" cy="3511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27478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Die Waffenkamm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258920" y="3943440"/>
            <a:ext cx="4010040" cy="29145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651640" y="3716280"/>
            <a:ext cx="3276360" cy="28987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4284720" y="1413000"/>
            <a:ext cx="3600360" cy="2403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395280" y="1268280"/>
            <a:ext cx="2252520" cy="28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Der Diamantenfo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132440" cy="30052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572000" y="3068640"/>
            <a:ext cx="4259160" cy="35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Der Diamantenfo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200400" cy="40197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316560" y="3087720"/>
            <a:ext cx="2827440" cy="3770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24000" y="3112920"/>
            <a:ext cx="28080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Wir sind auf 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Tahoma"/>
              </a:rPr>
              <a:t>die Natur</a:t>
            </a: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 stolz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258920" y="4365720"/>
            <a:ext cx="1909800" cy="21589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1160" y="3057120"/>
            <a:ext cx="67248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der  Fluß Lena</a:t>
            </a: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 der     Baikalse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der  Birkenwald</a:t>
            </a: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    das Schwarze Me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796000" y="1328760"/>
            <a:ext cx="2232000" cy="18208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5580000" y="4292640"/>
            <a:ext cx="2376720" cy="23511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1116000" y="1279440"/>
            <a:ext cx="223200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765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ffffcc"/>
                </a:solidFill>
                <a:latin typeface="Tahoma"/>
              </a:rPr>
              <a:t>Danke schön für die Aufmerksamkeit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71600" y="406368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ffcc"/>
                </a:solidFill>
                <a:latin typeface="Tahoma"/>
              </a:rPr>
              <a:t>Wir sind auf unsere 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Tahoma"/>
              </a:rPr>
              <a:t>Geschichte</a:t>
            </a:r>
            <a:r>
              <a:rPr b="0" lang="de-DE" sz="4000" spc="-1" strike="noStrike">
                <a:solidFill>
                  <a:srgbClr val="ffffcc"/>
                </a:solidFill>
                <a:latin typeface="Tahoma"/>
              </a:rPr>
              <a:t> stolz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85840" y="1700280"/>
            <a:ext cx="4357440" cy="4392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urikov W.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„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roberung 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ibirien von Ermak“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cc"/>
                </a:solidFill>
                <a:latin typeface="Tahoma"/>
              </a:rPr>
              <a:t>Wir sind auf </a:t>
            </a:r>
            <a:r>
              <a:rPr b="1" lang="de-DE" sz="3200" spc="-1" strike="noStrike" u="sng">
                <a:solidFill>
                  <a:srgbClr val="ffffcc"/>
                </a:solidFill>
                <a:uFillTx/>
                <a:latin typeface="Tahoma"/>
              </a:rPr>
              <a:t>die russischen Maler</a:t>
            </a:r>
            <a:r>
              <a:rPr b="1" lang="de-DE" sz="3200" spc="-1" strike="noStrike">
                <a:solidFill>
                  <a:srgbClr val="ffffcc"/>
                </a:solidFill>
                <a:latin typeface="Tahoma"/>
              </a:rPr>
              <a:t> stolz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992920" y="1625760"/>
            <a:ext cx="1838160" cy="19605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058760" y="1625760"/>
            <a:ext cx="1839960" cy="19605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3922560"/>
            <a:ext cx="854064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asnezov W.M.                          Repin I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„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Ivan Grosnij“                        „ Ivan Grosnij u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ein Sohn  Ivan“.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ffcc"/>
                </a:solidFill>
                <a:latin typeface="Tahoma"/>
              </a:rPr>
              <a:t>Wir sind auf 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Tahoma"/>
              </a:rPr>
              <a:t>die russischen Dichter und Schriftsteller</a:t>
            </a:r>
            <a:r>
              <a:rPr b="0" lang="de-DE" sz="4000" spc="-1" strike="noStrike">
                <a:solidFill>
                  <a:srgbClr val="ffffcc"/>
                </a:solidFill>
                <a:latin typeface="Tahoma"/>
              </a:rPr>
              <a:t> stolz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284120" y="4132440"/>
            <a:ext cx="1838520" cy="19587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lexan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ergeewit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usch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( 1799- 1837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Fjodor  Michailowit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ostoevskij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( 1821- 1881 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209600" y="1698480"/>
            <a:ext cx="183852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123840"/>
            <a:ext cx="854064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ew  Nikolaewit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olstoj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( 1828-1910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nton Pavlowit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schecho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( 1860-1904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477800" y="1708200"/>
            <a:ext cx="1838520" cy="19587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477800" y="4030560"/>
            <a:ext cx="183852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ffcc"/>
                </a:solidFill>
                <a:latin typeface="Tahoma"/>
              </a:rPr>
              <a:t>Wir sind auf 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Tahoma"/>
              </a:rPr>
              <a:t>die russischen Komponisten</a:t>
            </a:r>
            <a:r>
              <a:rPr b="0" lang="de-DE" sz="4000" spc="-1" strike="noStrike">
                <a:solidFill>
                  <a:srgbClr val="ffffcc"/>
                </a:solidFill>
                <a:latin typeface="Tahoma"/>
              </a:rPr>
              <a:t> stolz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36400" y="1625760"/>
            <a:ext cx="1839960" cy="19605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9280" y="3933720"/>
            <a:ext cx="842508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jotr Iljitsch                    Michail Iwanowitsch         Nikolaj Andreewits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schajkowskij                         Glinka                       Rimskij- Korsak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(1840-1893)                       (1804-1857 )                       (1844-1908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6813720" y="1625760"/>
            <a:ext cx="1838160" cy="19605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673440" y="1625760"/>
            <a:ext cx="184140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ffcc"/>
                </a:solidFill>
                <a:latin typeface="Tahoma"/>
              </a:rPr>
              <a:t>Wir sind auf unsere 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Tahoma"/>
              </a:rPr>
              <a:t>Hauptstadt Moskau</a:t>
            </a:r>
            <a:r>
              <a:rPr b="0" lang="de-DE" sz="4000" spc="-1" strike="noStrike">
                <a:solidFill>
                  <a:srgbClr val="ffffcc"/>
                </a:solidFill>
                <a:latin typeface="Tahoma"/>
              </a:rPr>
              <a:t> stolz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508040" y="1698480"/>
            <a:ext cx="1838520" cy="19605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5151600" y="1600200"/>
            <a:ext cx="3190680" cy="21747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3924000"/>
            <a:ext cx="85406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ahoma"/>
              </a:rPr>
              <a:t>Das  Wappen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ahoma"/>
              </a:rPr>
              <a:t>Der  Rote Plat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Moska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(der Heilige Geor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ahoma"/>
              </a:rPr>
              <a:t>die Hauptstadt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столица</a:t>
            </a:r>
            <a:r>
              <a:rPr b="0" i="1" lang="de-DE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Worauf sind wir stolz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ir sind auf........stol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9:54:48Z</dcterms:created>
  <dc:creator>Leonid</dc:creator>
  <dc:description/>
  <dc:language>en-US</dc:language>
  <cp:lastModifiedBy>Елена</cp:lastModifiedBy>
  <dcterms:modified xsi:type="dcterms:W3CDTF">2011-12-02T19:33:05Z</dcterms:modified>
  <cp:revision>10</cp:revision>
  <dc:subject/>
  <dc:title>Wir sind stolz auf unsere Heimat.</dc:title>
</cp:coreProperties>
</file>